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530-32DD-4938-AA48-F2F429AB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735-09C5-4802-807D-4DD5C95B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B2A-DC7C-42A3-9246-1545F249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E37-8C94-485F-85ED-21E1D72B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BEC-A446-4A9B-BE95-568FF09D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D1D-A920-4038-83CC-496E3B58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FB2-6C0A-4719-B510-D5A0B929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1B8-9DB8-4C54-9360-3C4AB6CD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128-C217-4AE7-B199-FD8DF24B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423-2EA7-4EEB-90C3-DF45A37B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471-D1F6-489D-BBAC-3E5D1D70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13F-2B30-446D-BB75-FCB8D51E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86AD-BC7C-42E8-A441-9E7EB3E072A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6840" cy="52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1"/>
          <p:cNvSpPr/>
          <p:nvPr/>
        </p:nvSpPr>
        <p:spPr>
          <a:xfrm>
            <a:off x="395280" y="3244680"/>
            <a:ext cx="5532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مربع نص 1"/>
          <p:cNvSpPr/>
          <p:nvPr/>
        </p:nvSpPr>
        <p:spPr>
          <a:xfrm>
            <a:off x="395280" y="418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مربع نص 1"/>
          <p:cNvSpPr/>
          <p:nvPr/>
        </p:nvSpPr>
        <p:spPr>
          <a:xfrm>
            <a:off x="395280" y="4902120"/>
            <a:ext cx="5532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مربع نص 1"/>
          <p:cNvSpPr/>
          <p:nvPr/>
        </p:nvSpPr>
        <p:spPr>
          <a:xfrm>
            <a:off x="395280" y="562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22840" y="1052640"/>
            <a:ext cx="5065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71520" y="1700280"/>
            <a:ext cx="7585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35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. لا بد أن يكون الإنفاق متواز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5359680" cy="5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504180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47973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قوبة في الدنيا و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2276640"/>
            <a:ext cx="85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ظيم لشان الوالدين والإحسان إليهما والنهي عن عقوقهم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6"/>
          <a:stretch/>
        </p:blipFill>
        <p:spPr>
          <a:xfrm>
            <a:off x="4524480" y="5381640"/>
            <a:ext cx="43686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324000" y="59500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له بدأ به ولا يقبل أي عمل إل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1892160" y="3156120"/>
            <a:ext cx="5359680" cy="54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2050920" y="3137040"/>
            <a:ext cx="5042160" cy="58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6"/>
          <a:stretch/>
        </p:blipFill>
        <p:spPr>
          <a:xfrm>
            <a:off x="3419640" y="4405320"/>
            <a:ext cx="4368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1530360"/>
            <a:ext cx="887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813040" y="4565520"/>
            <a:ext cx="351792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1089000"/>
            <a:ext cx="8642160" cy="565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35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320920"/>
            <a:ext cx="8507160" cy="44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917640"/>
            <a:ext cx="8613720" cy="135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4292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ص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جرهم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229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اً لين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124000" y="170028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طي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623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نفق المال في غير ح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وحيد 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أ الله تعالى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حسان إلى الوالدي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قوق ا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زداد بر الوالدين والإحسان إليهما والتلطف معهم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ا تقدم بهما العم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ول (أف) ل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هو من العق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كلمة (أف) على الوالدين من العقو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تدل على التضج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الآباء على الأبن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عاء لهم أحياء وأموات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576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غفرة الله تعالى تكون قريبة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هل الصلاح والإنابة والتو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081840"/>
            <a:ext cx="8665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ذوي القربى والمساكين وأبناء السبي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ر والإكرام لهم  ومنها ما هو واجب ومنها ما هو مسنو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إنفاق في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ء الملكان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في الأمور والقسط في الإنفاق المتواز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خل والتقتير والتبذير والإسراف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ؤدي التبذ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ندم والحسرة وبقاء الإنسان فارغ اليد متعرضاً لسؤال الناس والتذلل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3870360"/>
            <a:ext cx="86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طي الله ويمنع عن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عظيمة يعلمها الله سبحانه و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3:32Z</dcterms:modified>
  <cp:revision>1971</cp:revision>
  <dc:subject/>
  <dc:title>عرض تقديمي في PowerPoint</dc:title>
</cp:coreProperties>
</file>